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4008240" y="0"/>
            <a:ext cx="30668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84040" y="706320"/>
            <a:ext cx="4709880" cy="353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F03DFB3-B7F0-49B0-83F3-FD19DC15C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DF39F4C-5249-428D-B9BA-08C5FB08D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C7ED99A-8DBF-4CA6-9EF7-8A1661B61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1B5B4FF-ABD4-40AD-8691-D1C62CF43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3F8021B-3493-4D0F-B744-3527F2189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7E4A5AB-831C-4B0E-A8EF-22C83F93B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5DE-D237-47F3-B8D4-2CAD834B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792-E458-4D70-B5F4-013505E7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F5D-8184-46A8-B5AA-3C07A4A6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2DB-4DB0-4293-BFFA-B7CE614A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8831-1981-4C39-8A3D-F5495EAD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5FB7-3E47-4AAA-9C91-66802AF1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6E48-BF06-4B8B-A4B2-D3E95665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1DCF-3400-40F5-98FA-AE659759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C762-FAE1-4842-A394-0136D6EC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1BFA-3A97-4D1D-AE4D-505D554D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8886-4704-4996-A41F-30BDB5AB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9FA-2481-45FE-9A4E-DC633467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6967-AAAE-4AD0-B6E6-50DAC713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38B2-F2B5-4976-840E-8E34EEED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0D0C-1EC5-4374-A2B0-7FD1C710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247F-510B-43B2-AB08-98EEAACE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2FB1-4F1E-495F-9155-68656ED4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3DD1C-8434-4D3C-9D77-CEEAFE74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39822-3B03-4773-B267-BCA6A393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5D41F-96C2-4C38-B45D-E475DDFB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47998-3509-479E-BC36-CFC19C7B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E6B77-1C95-47E2-B4C2-E71B2E57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2A5-C0D9-47DC-BE91-E29C80C0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27DD4-FF3A-49AB-8122-B44105D3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FAE8-702A-43E5-A592-A0468E1A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9D9B3-04CA-46FA-BFBE-363A22B4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E0953-E756-487D-ABA7-C8B3C914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FDC7-B117-45EF-B84A-2D8756AE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F4316-E232-4D5D-99BD-2E830F53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95B2A-E0A3-47D0-99BE-6D0E9E51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685AF-A534-486E-84E5-62CFA0C4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7C261-F0EE-4CD0-8FB9-A8E620E5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2C8A6-860A-44E2-813E-71574E4C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121-BF29-4C83-BA3F-F4CED20C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9EFB8-2CA1-47BE-B70E-7B8FAC08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6686E-0718-41B4-BAF7-788856F1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069A4-4D9E-4539-BDBC-6DC71D8D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A8D62-CAE9-4545-9A13-C6C0B776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85EE2-10D7-4480-A8C7-A9EF8301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74D83-9F0A-4D44-82C0-1055D1BA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42BD1-993E-4994-89BA-3B0D1024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CF0DA-ABCE-4AF1-8CF6-FB99C3DC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6D89A-7502-475D-A648-B6AFA11F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BD8BE-4AD7-427E-BA8C-666229A6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9A6-4942-4476-8263-8056A1F0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1FF32-FFB1-403A-97BE-87683F83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B35EB-43D5-4082-933B-B59A783A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67CEA-81FD-45E2-8FEE-B302F172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90A1C-0975-495E-9826-81419C5A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F1CBA-F300-40DD-9835-9EE4B547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7E1B8-A09C-4EEE-941A-4705B002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F4E65-B574-43B0-A945-2AF7B77D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58248-120F-4E7B-AC75-1EC92E39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0A4F6-F77D-49BB-A215-1B474DF6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7B2B6-C96E-4B41-9F6E-5A45942F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D5C-1D48-4FB1-A1CF-2E7AAD75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E3A21-B35C-4A01-893C-938BFCCC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A7A02-AFA9-4874-A19B-61BF1C9E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31526-C19A-46E2-9216-5BF76D70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57FF4-59C0-4C88-9741-8447C3EB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F4D20-5A26-4723-ADC6-EF0872E1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09388-C8BF-41FA-A758-D32B73B5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99859-7638-4F3C-A1E8-D29D420F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53CA6-7967-408A-82E7-82CADF23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7F778-1799-410E-B566-E880D9F6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3936C-9897-488C-A604-221385F8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23A-98D5-44BF-8369-57AF738C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DE632-9369-4F99-84A5-D1BB252C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0F465-471A-4B44-A1A7-CA54734F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3A4B3-30C7-4169-87D3-72C1C267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A1050-E566-4772-807B-DA84D723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9C9CB-20C0-45B7-B050-4DF83420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02006-899D-42E0-858A-58F9BB6B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AE171-6E48-466D-B106-80025787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29CE9-9429-4417-BA69-585A5639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7B83F-73AC-4AB4-9569-0E67E091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964C3-06D8-48E7-A3BE-3B576E8F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756-8A91-4494-9ABA-034E4247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FFBC8-D9FE-4690-90FA-2012100B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29780-C145-4F65-9C66-51DA8BCC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416A8-C27F-42A2-9042-E6E8D6E6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2F020-CF15-4066-B881-FB9B094E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55502-50F0-48EE-A9A9-2CFDE018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4AC1A-1EC0-414B-984D-C1D3BE4B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5DE4E-727B-4359-8FA4-D7AF47D7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40544-F1CE-4731-B1D7-FA51FFA7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9AF52-883B-4CDF-B4E7-7A9B0A08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1532D-26AB-4453-99E4-48669DB1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C8E-9E29-4732-BDFC-6618A813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BA1CB-C57D-47D8-B173-F17AB664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D8F3F-2787-45B4-8376-1F86EE9E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8A06D-CA0B-4D86-8C6D-D3C90986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CA24F-2B5D-4A12-BE6F-47E53898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2ABC6-F855-4D91-B17A-5044D187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E7A90-7C46-4748-8F09-580115B5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F3A91-92F4-4812-B950-87AA2294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D7FA-5E08-48B9-A5DA-7D7262FA9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4936-7C5D-44B7-B339-16DFBB2560B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8E1F-810A-4C81-AC88-A70CAB0FCB1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CD43-B2B8-46AE-918E-9D93E0EBEC6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54B2-B76A-41A1-AAD0-5D582A34AD8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F5C6-96B0-4FE4-B8A9-4A21E198F3F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DC24-3CB4-4BA0-AA00-04504D14A12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5A66-94F2-4704-ADDC-F38E1536057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3880" y="152388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10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447560" y="358092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(4 part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Logical, Logist, Logue, Logy, Loquy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14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science or study o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speec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collection o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Zoologic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ntomologis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ntom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onologu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nth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nthrop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rchae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c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tym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ulogy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(eu-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ell; good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oliloqu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i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ialogu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e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7" descr="zoologicall.jpg"/>
          <p:cNvPicPr/>
          <p:nvPr/>
        </p:nvPicPr>
        <p:blipFill>
          <a:blip r:embed="rId2"/>
          <a:stretch/>
        </p:blipFill>
        <p:spPr>
          <a:xfrm>
            <a:off x="7315200" y="1752480"/>
            <a:ext cx="1276200" cy="914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anthologyy.jpg"/>
          <p:cNvPicPr/>
          <p:nvPr/>
        </p:nvPicPr>
        <p:blipFill>
          <a:blip r:embed="rId3"/>
          <a:stretch/>
        </p:blipFill>
        <p:spPr>
          <a:xfrm>
            <a:off x="6400800" y="5715000"/>
            <a:ext cx="2743200" cy="1143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entomology.jpg"/>
          <p:cNvPicPr/>
          <p:nvPr/>
        </p:nvPicPr>
        <p:blipFill>
          <a:blip r:embed="rId4"/>
          <a:stretch/>
        </p:blipFill>
        <p:spPr>
          <a:xfrm>
            <a:off x="1295280" y="3200400"/>
            <a:ext cx="2133720" cy="1266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" descr="dialogue.jpg"/>
          <p:cNvPicPr/>
          <p:nvPr/>
        </p:nvPicPr>
        <p:blipFill>
          <a:blip r:embed="rId5"/>
          <a:stretch/>
        </p:blipFill>
        <p:spPr>
          <a:xfrm>
            <a:off x="7010280" y="30481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1" descr="anthropology.jpg"/>
          <p:cNvPicPr/>
          <p:nvPr/>
        </p:nvPicPr>
        <p:blipFill>
          <a:blip r:embed="rId6"/>
          <a:stretch/>
        </p:blipFill>
        <p:spPr>
          <a:xfrm>
            <a:off x="1219320" y="5410080"/>
            <a:ext cx="2971800" cy="1285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2" descr="geology.jpg"/>
          <p:cNvPicPr/>
          <p:nvPr/>
        </p:nvPicPr>
        <p:blipFill>
          <a:blip r:embed="rId7"/>
          <a:stretch/>
        </p:blipFill>
        <p:spPr>
          <a:xfrm>
            <a:off x="3505320" y="3581280"/>
            <a:ext cx="1447560" cy="171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an, Mani, Man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and (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n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nicure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(cure-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o care for; to heal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nu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nufactu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nuscrip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0" name="Picture 6" descr="manicure.jpg"/>
          <p:cNvPicPr/>
          <p:nvPr/>
        </p:nvPicPr>
        <p:blipFill>
          <a:blip r:embed="rId2"/>
          <a:stretch/>
        </p:blipFill>
        <p:spPr>
          <a:xfrm>
            <a:off x="6629400" y="0"/>
            <a:ext cx="2362320" cy="1600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manual.jpg"/>
          <p:cNvPicPr/>
          <p:nvPr/>
        </p:nvPicPr>
        <p:blipFill>
          <a:blip r:embed="rId3"/>
          <a:stretch/>
        </p:blipFill>
        <p:spPr>
          <a:xfrm>
            <a:off x="6705720" y="46483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manufacture.jpg"/>
          <p:cNvPicPr/>
          <p:nvPr/>
        </p:nvPicPr>
        <p:blipFill>
          <a:blip r:embed="rId4"/>
          <a:stretch/>
        </p:blipFill>
        <p:spPr>
          <a:xfrm>
            <a:off x="1295280" y="3657600"/>
            <a:ext cx="3353040" cy="297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d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lating to the midd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termedi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ediator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(ator-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e who or that which, does or acts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edieval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edioc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editerrane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6" name="Picture 6" descr="mediate.jpg"/>
          <p:cNvPicPr/>
          <p:nvPr/>
        </p:nvPicPr>
        <p:blipFill>
          <a:blip r:embed="rId2"/>
          <a:stretch/>
        </p:blipFill>
        <p:spPr>
          <a:xfrm>
            <a:off x="2133720" y="5105520"/>
            <a:ext cx="2790720" cy="1371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medieval.jpg"/>
          <p:cNvPicPr/>
          <p:nvPr/>
        </p:nvPicPr>
        <p:blipFill>
          <a:blip r:embed="rId3"/>
          <a:stretch/>
        </p:blipFill>
        <p:spPr>
          <a:xfrm>
            <a:off x="6629400" y="4724280"/>
            <a:ext cx="2209680" cy="18669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mediterranean.jpg"/>
          <p:cNvPicPr/>
          <p:nvPr/>
        </p:nvPicPr>
        <p:blipFill>
          <a:blip r:embed="rId4"/>
          <a:stretch/>
        </p:blipFill>
        <p:spPr>
          <a:xfrm>
            <a:off x="1828800" y="3124080"/>
            <a:ext cx="243828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ter, Met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040" y="1599840"/>
            <a:ext cx="381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 measu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cience of measure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at by which things are measur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em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ar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erimet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eri-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ound; about; near; encirclin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ti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ron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ci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a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dr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icr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rigonomet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6" descr="anemometer.jpg"/>
          <p:cNvPicPr/>
          <p:nvPr/>
        </p:nvPicPr>
        <p:blipFill>
          <a:blip r:embed="rId2"/>
          <a:stretch/>
        </p:blipFill>
        <p:spPr>
          <a:xfrm>
            <a:off x="1295280" y="3733920"/>
            <a:ext cx="1228680" cy="13716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barmometer.jpg"/>
          <p:cNvPicPr/>
          <p:nvPr/>
        </p:nvPicPr>
        <p:blipFill>
          <a:blip r:embed="rId3"/>
          <a:stretch/>
        </p:blipFill>
        <p:spPr>
          <a:xfrm>
            <a:off x="510552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perimeter.jpg"/>
          <p:cNvPicPr/>
          <p:nvPr/>
        </p:nvPicPr>
        <p:blipFill>
          <a:blip r:embed="rId4"/>
          <a:stretch/>
        </p:blipFill>
        <p:spPr>
          <a:xfrm>
            <a:off x="2819520" y="3429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altimeter.jpg"/>
          <p:cNvPicPr/>
          <p:nvPr/>
        </p:nvPicPr>
        <p:blipFill>
          <a:blip r:embed="rId5"/>
          <a:stretch/>
        </p:blipFill>
        <p:spPr>
          <a:xfrm>
            <a:off x="7543800" y="5105520"/>
            <a:ext cx="1209600" cy="12380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trigonometry.jpg"/>
          <p:cNvPicPr/>
          <p:nvPr/>
        </p:nvPicPr>
        <p:blipFill>
          <a:blip r:embed="rId6"/>
          <a:stretch/>
        </p:blipFill>
        <p:spPr>
          <a:xfrm>
            <a:off x="7162920" y="1522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chornomter.jpg"/>
          <p:cNvPicPr/>
          <p:nvPr/>
        </p:nvPicPr>
        <p:blipFill>
          <a:blip r:embed="rId7"/>
          <a:stretch/>
        </p:blipFill>
        <p:spPr>
          <a:xfrm>
            <a:off x="7467480" y="3581280"/>
            <a:ext cx="1447920" cy="12002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2" descr="diameter.jpg"/>
          <p:cNvPicPr/>
          <p:nvPr/>
        </p:nvPicPr>
        <p:blipFill>
          <a:blip r:embed="rId8"/>
          <a:stretch/>
        </p:blipFill>
        <p:spPr>
          <a:xfrm>
            <a:off x="1447920" y="5410080"/>
            <a:ext cx="1085760" cy="971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3" descr="audiometerr.jpg"/>
          <p:cNvPicPr/>
          <p:nvPr/>
        </p:nvPicPr>
        <p:blipFill>
          <a:blip r:embed="rId9"/>
          <a:stretch/>
        </p:blipFill>
        <p:spPr>
          <a:xfrm>
            <a:off x="3124080" y="5029200"/>
            <a:ext cx="1562400" cy="125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3-16T18:11:10Z</dcterms:modified>
  <cp:revision>31</cp:revision>
  <dc:subject/>
  <dc:title>Roots List #1</dc:title>
</cp:coreProperties>
</file>